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71CEE-9E9E-44E4-A7AA-F143594B68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mediate Algebra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Gustafson and Fri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Review of Basic Algeb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1.2: Arithmetic &amp; Properties of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ertie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ociative – addition, multi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utative – addition, multi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tributive – multiplication is distributed over addi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(b + c) = ab + 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ection 1.2: Arithmetic &amp; Properties of Real Numb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Properties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ssociative – addition, multiplic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mmutative – addition, multiplic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istributive – multiplication is distributed over addition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 (b + c) = ab + a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1.2: Arithmetic &amp; Properties of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ntitie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 – ze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ication – 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erse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 – opposi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ication – reciproc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ection 1.2: Arithmetic &amp; Properties of Real Numb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dentities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ddition – zer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ultiplication – o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verses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ddition – opposit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ultiplication – reciprocal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1.3: Definition of Expon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ONENTS: repeated multi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expression: a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is the base and n is the ex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onents are NOT fa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ns to multiply “a” n ti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ection 1.3: Definition of Exponen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EXPONENTS: repeated multiplic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 the expression: an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 is the base and n is the expon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Exponents are NOT facto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eans to multiply “a” n tim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1.3: Definition of Expon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DER OF OPERATION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n algebraic expression has more than one operation, the following order appli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ear up any group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e expon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multiplication and division from left to r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addition and subtraction from left to r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ection 1.3: Definition of Exponen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ORDER OF OPERATIONS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f an algebraic expression has more than one operation, the following order applies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lear up any grouping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Evaluate exponent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o multiplication and division from left to righ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o addition and subtraction from left to righ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1.5: Solving 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gebraic Expression vs. Eq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ressions: a combination of numbers and oper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uation: a statement that two expressions are equ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ection 1.5: Solving Equa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lgebraic Expression vs. Equ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Expressions: a combination of numbers and opera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Equation: a statement that two expressions are equ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1.5: Solving 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RESSION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ke te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multiplying, the terms do not need to be ali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only add like term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ection 1.5: Solving Equa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EXPRESSIONS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erm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Like term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hen multiplying, the terms do not need to be alik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an only add like terms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1.5: Solving 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SOLVE AN EQUATION IN ONE VARIABL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see fractions, multiply both sides by the LCD. This will eliminate the fra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plify the algebraic expressions on each side of the equal sign (eliminate parentheses and combine like term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the addition property of equality to isolate the variable terms from the constant terms on opposite sides of the equal sig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the multiplication property to make the coefficient  of the variable equal to o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 your results by evalua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ection 1.5: Solving Equa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O SOLVE AN EQUATION IN ONE VARIABLE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f you see fractions, multiply both sides by the LCD. This will eliminate the fraction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implify the algebraic expressions on each side of the equal sign (eliminate parentheses and combine like terms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Use the addition property of equality to isolate the variable terms from the constant terms on opposite sides of the equal sig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Use the multiplication property to make the coefficient  of the variable equal to on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heck your results by evaluating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1.5: Solving 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EQUAT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DITIONAL: if x equals this, then y equals tha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NTITY: always true no matter what numbers you u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ADICTION: never true no matter what numbers you u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ULAS: conditional equations that model a relationship between the variab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ection 1.5: Solving Equa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YPES OF EQUATIONS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DITIONAL: if x equals this, then y equals tha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DENTITY: always true no matter what numbers you us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TRADICTION: never true no matter what numbers you us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FORMULAS: conditional equations that model a relationship between the variabl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1.6 &amp; 1.7: Solving Problems, App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PROBLEM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ome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c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sics (forc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form mo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x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‘ole common sense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: Basic Algebra Re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AR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 YOUR VOCABULARY! You can’t follow directions if you don’t know what the words in the instructions mea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morize the processes and the propert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will provide formulas for your refere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k questions if you are uns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ways check your work to make sure that you answered the question, and that your answer is reason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hapter 1: Basic Algebra Review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UMMARY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KNOW YOUR VOCABULARY! You can’t follow directions if you don’t know what the words in the instructions mea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emorize the processes and the properti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 will provide formulas for your referenc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sk questions if you are unsur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lways check your work to make sure that you answered the question, and that your answer is reasonabl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1.1: The Real Number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S: collections of objec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ur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le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ion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ration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g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gative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n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dd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{  }  {x | x &gt; 5}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read “the set of all x such that x is greater than 5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ection 1.1: The Real Number Syste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ETS: collections of object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atural Numb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hole Numb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Rational Numb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rrational Numb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Real Numb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teg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Positive Numb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egative Numb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Even Numb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Odd Numb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Use {  }  {x | x &gt; 5}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s read “the set of all x such that x is greater than 5”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1.1: The Real Number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PHS: plot on the number li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vidual numbers are do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ection 1.1: The Real Number Syste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APHS: plot on the number lin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vidual numbers are do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1.1: The Real Number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PHS: plot on the number li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vals including end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ection 1.1: The Real Number Syste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APHS: plot on the number lin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tervals including end poin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[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[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]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1.1: The Real Number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PHS: plot on the number li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vals not including end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ection 1.1: The Real Number Syste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APHS: plot on the number lin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tervals not including end poin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(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(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1.2: Arithmetic &amp; Properties of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ERATION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traction (the same as adding a number with the opposite sig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vision (the same as multiplying by the reciproc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1.2: Arithmetic &amp; Properties of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ends that have opposite sig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tract absolute val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ep the sign of the addend with the largest absolute val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ends that have the same sig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absolute val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ep the sign of the adde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ection 1.2: Arithmetic &amp; Properties of Real Numb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DDITION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ddends that have opposite sig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ubtract absolute valu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Keep the sign of the addend with the largest absolute valu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ddends that have the same sig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dd absolute valu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Keep the sign of the addend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1.2: Arithmetic &amp; Properties of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ICATION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y absolute val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factors have the same signs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duct is posi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factors have opposite signs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duct is neg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ection 1.2: Arithmetic &amp; Properties of Real Numb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ULTIPLICATION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ultiply absolute valu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f the factors have the same signs,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he product is positiv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f the factors have opposite signs,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he product is negativ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1.2: Arithmetic &amp; Properties of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ISTICS: measures of central tendenc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dia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ection 1.2: Arithmetic &amp; Properties of Real Numb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TATISTICS: measures of central tendency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ean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edian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od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D6E46-770F-481D-BFDD-321DAF994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4BCDB-9E7C-4F2B-81E1-DBD9F116A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5B96E-A088-41BB-98CF-80C3A6B26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36F8C-F7B9-4068-89E6-37C0005C3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952DD-A862-4071-ABC7-41595AA6F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FC612-B22C-4A2F-BEB9-571C3F46B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F4CFB-69DB-4B6C-BD82-69F7D8D07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1F49E-D509-4003-A612-98532D06B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C2A74-89FE-4E8E-829A-666F428F9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CB106-D338-4FF7-AD0A-044B46341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A7200-93A5-4CAD-B9CA-8EA4AE66F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74976-91AC-44DF-A6BE-0906F5A6D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C5DB8-58D3-4E8E-8475-46CC50687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26E2C-3A36-4698-A581-0B7777220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B8B71-53F7-4631-BB2D-E604B0CED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A04E4-C5FC-4340-A9A0-E9E64F849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3BC22-B822-464F-B5A0-E9869CA05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1618B-E493-4C26-81E6-DF316A6FA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4D7DC-2119-4168-A949-3FB6AB415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728C2-37A0-40F3-94E8-FF2D574B6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7F92A-9689-4BC4-BB99-19F4ABBA5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49925-6F43-4688-9972-5B36C0E62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99CE3-5E7D-4A85-B29A-9D1561EAF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A318E-C13A-43FF-84C1-28B2C04BD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63822-8DFE-49C6-BA3D-607446E1144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096EF-169B-47AF-886A-B042F7D17B8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Intermediate Algebra</a:t>
            </a:r>
            <a:br>
              <a:rPr sz="4400"/>
            </a:b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by Gustafson and Frisk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hapter 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Review of Basic Algebr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Місце для нижнього колонтитула 3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2"/>
          <p:cNvSpPr/>
          <p:nvPr/>
        </p:nvSpPr>
        <p:spPr>
          <a:xfrm>
            <a:off x="304920" y="274680"/>
            <a:ext cx="83818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Section 1.2: Arithmetic &amp; Properties of Real Numb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Text Placeholder 26"/>
          <p:cNvSpPr/>
          <p:nvPr/>
        </p:nvSpPr>
        <p:spPr>
          <a:xfrm>
            <a:off x="914400" y="1143000"/>
            <a:ext cx="77724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Properties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Rectangle 23"/>
          <p:cNvSpPr/>
          <p:nvPr/>
        </p:nvSpPr>
        <p:spPr>
          <a:xfrm>
            <a:off x="914400" y="1905120"/>
            <a:ext cx="754380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ssociative – addition, multipl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mutative – addition, multipl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Rectangle 24"/>
          <p:cNvSpPr/>
          <p:nvPr/>
        </p:nvSpPr>
        <p:spPr>
          <a:xfrm>
            <a:off x="1066680" y="4114800"/>
            <a:ext cx="7543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istributive – multiplication is distributed over addition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(b + c) = ab + a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2"/>
          <p:cNvSpPr/>
          <p:nvPr/>
        </p:nvSpPr>
        <p:spPr>
          <a:xfrm>
            <a:off x="304920" y="274680"/>
            <a:ext cx="83818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Section 1.2: Arithmetic &amp; Properties of Real Numb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Text Placeholder 26"/>
          <p:cNvSpPr/>
          <p:nvPr/>
        </p:nvSpPr>
        <p:spPr>
          <a:xfrm>
            <a:off x="914400" y="1143000"/>
            <a:ext cx="77724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Identities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Rectangle 3"/>
          <p:cNvSpPr/>
          <p:nvPr/>
        </p:nvSpPr>
        <p:spPr>
          <a:xfrm>
            <a:off x="914400" y="1905120"/>
            <a:ext cx="754380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ddition – zer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ltiplication – o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Text Placeholder 26"/>
          <p:cNvSpPr/>
          <p:nvPr/>
        </p:nvSpPr>
        <p:spPr>
          <a:xfrm>
            <a:off x="914400" y="3581280"/>
            <a:ext cx="77724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Inverses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Rectangle 6"/>
          <p:cNvSpPr/>
          <p:nvPr/>
        </p:nvSpPr>
        <p:spPr>
          <a:xfrm>
            <a:off x="914400" y="4343400"/>
            <a:ext cx="754380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ddition – opposi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ltiplication – reciproca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Місце для нижнього колонтитула 4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2"/>
          <p:cNvSpPr/>
          <p:nvPr/>
        </p:nvSpPr>
        <p:spPr>
          <a:xfrm>
            <a:off x="304920" y="274680"/>
            <a:ext cx="83818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Section 1.3: Definition of Expon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Text Placeholder 26"/>
          <p:cNvSpPr/>
          <p:nvPr/>
        </p:nvSpPr>
        <p:spPr>
          <a:xfrm>
            <a:off x="914400" y="1143000"/>
            <a:ext cx="77724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EXPONENTS: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peated multipl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Rectangle 3"/>
          <p:cNvSpPr/>
          <p:nvPr/>
        </p:nvSpPr>
        <p:spPr>
          <a:xfrm>
            <a:off x="914400" y="2286000"/>
            <a:ext cx="7543800" cy="224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the expression: a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is the base and n is the expon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ponents are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NOT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facto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ans to multiply “a” n tim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Місце для нижнього колонтитула 4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7" dur="1000" fill="hold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2"/>
          <p:cNvSpPr/>
          <p:nvPr/>
        </p:nvSpPr>
        <p:spPr>
          <a:xfrm>
            <a:off x="304920" y="274680"/>
            <a:ext cx="83818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Section 1.3: Definition of Expon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Text Placeholder 26"/>
          <p:cNvSpPr/>
          <p:nvPr/>
        </p:nvSpPr>
        <p:spPr>
          <a:xfrm>
            <a:off x="914400" y="1143000"/>
            <a:ext cx="77724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ORDER OF OPERATIONS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Rectangle 3"/>
          <p:cNvSpPr/>
          <p:nvPr/>
        </p:nvSpPr>
        <p:spPr>
          <a:xfrm>
            <a:off x="914400" y="1905120"/>
            <a:ext cx="7543800" cy="42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f an algebraic expression has more than one operation, the following order appli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ear up any group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valuate exponen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o multiplication and division from left to righ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o addition and subtraction from left to righ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Місце для нижнього колонтитула 4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2"/>
          <p:cNvSpPr/>
          <p:nvPr/>
        </p:nvSpPr>
        <p:spPr>
          <a:xfrm>
            <a:off x="304920" y="274680"/>
            <a:ext cx="83818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Section 1.5: Solving Equ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Text Placeholder 26"/>
          <p:cNvSpPr/>
          <p:nvPr/>
        </p:nvSpPr>
        <p:spPr>
          <a:xfrm>
            <a:off x="914400" y="1143000"/>
            <a:ext cx="77724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Algebraic Expression vs. Eq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Rectangle 3"/>
          <p:cNvSpPr/>
          <p:nvPr/>
        </p:nvSpPr>
        <p:spPr>
          <a:xfrm>
            <a:off x="914400" y="2286000"/>
            <a:ext cx="7543800" cy="21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pressions: a combination of numbers and oper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quation: a statement that two expressions are equ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Місце для нижнього колонтитула 4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1000" fill="hold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1000" fill="hold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1000" fill="hold"/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1000" fill="hold"/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2"/>
          <p:cNvSpPr/>
          <p:nvPr/>
        </p:nvSpPr>
        <p:spPr>
          <a:xfrm>
            <a:off x="304920" y="274680"/>
            <a:ext cx="83818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Section 1.5: Solving Equ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Text Placeholder 26"/>
          <p:cNvSpPr/>
          <p:nvPr/>
        </p:nvSpPr>
        <p:spPr>
          <a:xfrm>
            <a:off x="914400" y="1143000"/>
            <a:ext cx="77724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EXPRESSIONS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Rectangle 3"/>
          <p:cNvSpPr/>
          <p:nvPr/>
        </p:nvSpPr>
        <p:spPr>
          <a:xfrm>
            <a:off x="914400" y="2286000"/>
            <a:ext cx="7543800" cy="28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er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ke ter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en multiplying, the terms do not need to be alik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Can only add like terms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Місце для нижнього колонтитула 4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2"/>
          <p:cNvSpPr/>
          <p:nvPr/>
        </p:nvSpPr>
        <p:spPr>
          <a:xfrm>
            <a:off x="304920" y="274680"/>
            <a:ext cx="83818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Section 1.5: Solving Equ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Text Placeholder 26"/>
          <p:cNvSpPr/>
          <p:nvPr/>
        </p:nvSpPr>
        <p:spPr>
          <a:xfrm>
            <a:off x="914400" y="1143000"/>
            <a:ext cx="77724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O SOLVE AN EQUATION IN ONE VARIAB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Rectangle 3"/>
          <p:cNvSpPr/>
          <p:nvPr/>
        </p:nvSpPr>
        <p:spPr>
          <a:xfrm>
            <a:off x="914400" y="1905120"/>
            <a:ext cx="7848720" cy="44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f you see fractions, 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multiply both sides by the LCD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. This will eliminate the fracti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Simplify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the algebraic expressions on each side of the equal sign (eliminate parentheses and combine like terms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se the addition property of equality to 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isolate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variable terms from the constant terms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n opposite sides of the equal sig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se the multiplication property to make the coefficient  of the variable equal to on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heck your results by evaluating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Місце для нижнього колонтитула 4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mph" presetID="5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329" dur="indefinite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30" dur="indefinite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31" dur="indefinite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mph" presetID="5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335" dur="indefinite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36" dur="indefinite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37" dur="indefinite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mph" presetID="5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341" dur="indefinite"/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42" dur="indefinite"/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43" dur="indefinite"/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mph" presetID="5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347" dur="indefinite"/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48" dur="indefinite"/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49" dur="indefinite"/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mph" presetID="5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353" dur="indefinite"/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indefinite"/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indefinite"/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2"/>
          <p:cNvSpPr/>
          <p:nvPr/>
        </p:nvSpPr>
        <p:spPr>
          <a:xfrm>
            <a:off x="304920" y="274680"/>
            <a:ext cx="83818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Section 1.5: Solving Equ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Text Placeholder 26"/>
          <p:cNvSpPr/>
          <p:nvPr/>
        </p:nvSpPr>
        <p:spPr>
          <a:xfrm>
            <a:off x="914400" y="1143000"/>
            <a:ext cx="77724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TYPES OF EQUATION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Rectangle 3"/>
          <p:cNvSpPr/>
          <p:nvPr/>
        </p:nvSpPr>
        <p:spPr>
          <a:xfrm>
            <a:off x="914400" y="1905120"/>
            <a:ext cx="7543800" cy="47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DITIONAL: if x equals this, then y equals tha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DENTITY: always true no matter what numbers you us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TRADICTION: never true no matter what numbers you us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RMULAS: conditional equations that model a relationship between the variabl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Місце для нижнього колонтитула 4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2000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2000"/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2000"/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2000"/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2"/>
          <p:cNvSpPr/>
          <p:nvPr/>
        </p:nvSpPr>
        <p:spPr>
          <a:xfrm>
            <a:off x="304920" y="274680"/>
            <a:ext cx="83818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Section 1.6 &amp; 1.7: Solving Problems, App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Text Placeholder 26"/>
          <p:cNvSpPr/>
          <p:nvPr/>
        </p:nvSpPr>
        <p:spPr>
          <a:xfrm>
            <a:off x="914400" y="1143000"/>
            <a:ext cx="77724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TYPES OF PROBLEMS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Rectangle 3"/>
          <p:cNvSpPr/>
          <p:nvPr/>
        </p:nvSpPr>
        <p:spPr>
          <a:xfrm>
            <a:off x="914400" y="1905120"/>
            <a:ext cx="7543800" cy="35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eomet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erc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hysics (force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niform mo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ixtu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ood ‘ole common sense analy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Місце для нижнього колонтитула 4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" dur="1000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2" dur="1000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9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8" dur="1000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0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4" dur="1000"/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0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0" dur="1000"/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2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2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6" dur="1000"/>
                                        <p:tgtEl>
                                          <p:spTgt spid="2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420" dur="500" fill="hold"/>
                                        <p:tgtEl>
                                          <p:spTgt spid="2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2"/>
          <p:cNvSpPr/>
          <p:nvPr/>
        </p:nvSpPr>
        <p:spPr>
          <a:xfrm>
            <a:off x="304920" y="274680"/>
            <a:ext cx="83818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Chapter 1: Basic Algebra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Text Placeholder 26"/>
          <p:cNvSpPr/>
          <p:nvPr/>
        </p:nvSpPr>
        <p:spPr>
          <a:xfrm>
            <a:off x="914400" y="1143000"/>
            <a:ext cx="77724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ahoma"/>
              </a:rPr>
              <a:t>SUMMARY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Rectangle 3"/>
          <p:cNvSpPr/>
          <p:nvPr/>
        </p:nvSpPr>
        <p:spPr>
          <a:xfrm>
            <a:off x="914400" y="1905120"/>
            <a:ext cx="7543800" cy="47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NOW YOUR VOCABULARY!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You can’t follow directions if you don’t know what the words in the instructions mea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morize the processes and the properti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 will provide formulas for your referen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sk questions if you are unsu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lways check your work to make sure that you answered the question, and that your answer is reasonabl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Місце для нижнього колонтитула 4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7" dur="500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2" dur="500"/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7" dur="500"/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2" dur="500"/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7" dur="500"/>
                                        <p:tgtEl>
                                          <p:spTgt spid="2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51" dur="1000" fill="hold"/>
                                        <p:tgtEl>
                                          <p:spTgt spid="2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25000" y="12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590560" y="274320"/>
            <a:ext cx="609588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Section 1.1: The Real Number System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400" y="1142640"/>
            <a:ext cx="777240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SETS: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llections of object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837720" y="2209680"/>
            <a:ext cx="3505320" cy="254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atural Numb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ole Numb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ational Numb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rrational Numb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al Numb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876560" y="2209680"/>
            <a:ext cx="3431880" cy="270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eg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ositive Numb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egative Numb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ven Numb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dd Numb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Content Placeholder 25"/>
          <p:cNvSpPr/>
          <p:nvPr/>
        </p:nvSpPr>
        <p:spPr>
          <a:xfrm>
            <a:off x="914400" y="4800600"/>
            <a:ext cx="7315200" cy="15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28800" indent="-1828800">
              <a:spcBef>
                <a:spcPts val="7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Use {  } 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{x | x &gt; 5}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s read “the set of all x such that x is greater than 5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828800" indent="-182880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10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10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10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10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590560" y="274320"/>
            <a:ext cx="609588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Section 1.1: The Real Number System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6" name="Text Placeholder 26"/>
          <p:cNvSpPr/>
          <p:nvPr/>
        </p:nvSpPr>
        <p:spPr>
          <a:xfrm>
            <a:off x="914400" y="1143000"/>
            <a:ext cx="77724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GRAPHS: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lot on the number lin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7" name="Group 9"/>
          <p:cNvGrpSpPr/>
          <p:nvPr/>
        </p:nvGrpSpPr>
        <p:grpSpPr>
          <a:xfrm>
            <a:off x="1600200" y="4038480"/>
            <a:ext cx="6324480" cy="1178640"/>
            <a:chOff x="1600200" y="4038480"/>
            <a:chExt cx="6324480" cy="1178640"/>
          </a:xfrm>
        </p:grpSpPr>
        <p:sp>
          <p:nvSpPr>
            <p:cNvPr id="128" name="Rectangle 6"/>
            <p:cNvSpPr/>
            <p:nvPr/>
          </p:nvSpPr>
          <p:spPr>
            <a:xfrm>
              <a:off x="3701160" y="457200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-1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Rectangle 7"/>
            <p:cNvSpPr/>
            <p:nvPr/>
          </p:nvSpPr>
          <p:spPr>
            <a:xfrm>
              <a:off x="4408560" y="457452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0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Rectangle 8"/>
            <p:cNvSpPr/>
            <p:nvPr/>
          </p:nvSpPr>
          <p:spPr>
            <a:xfrm>
              <a:off x="6302880" y="457452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3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Rectangle 9"/>
            <p:cNvSpPr/>
            <p:nvPr/>
          </p:nvSpPr>
          <p:spPr>
            <a:xfrm>
              <a:off x="5040000" y="457452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1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Rectangle 10"/>
            <p:cNvSpPr/>
            <p:nvPr/>
          </p:nvSpPr>
          <p:spPr>
            <a:xfrm>
              <a:off x="6934320" y="457452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4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Rectangle 11"/>
            <p:cNvSpPr/>
            <p:nvPr/>
          </p:nvSpPr>
          <p:spPr>
            <a:xfrm>
              <a:off x="5671440" y="457452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2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Rectangle 12"/>
            <p:cNvSpPr/>
            <p:nvPr/>
          </p:nvSpPr>
          <p:spPr>
            <a:xfrm>
              <a:off x="2841120" y="4572000"/>
              <a:ext cx="761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 </a:t>
              </a: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-2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Line 15"/>
            <p:cNvSpPr/>
            <p:nvPr/>
          </p:nvSpPr>
          <p:spPr>
            <a:xfrm>
              <a:off x="1600200" y="4267080"/>
              <a:ext cx="63244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Line 16"/>
            <p:cNvSpPr/>
            <p:nvPr/>
          </p:nvSpPr>
          <p:spPr>
            <a:xfrm>
              <a:off x="2438280" y="411444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Line 17"/>
            <p:cNvSpPr/>
            <p:nvPr/>
          </p:nvSpPr>
          <p:spPr>
            <a:xfrm>
              <a:off x="3222000" y="403848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Line 18"/>
            <p:cNvSpPr/>
            <p:nvPr/>
          </p:nvSpPr>
          <p:spPr>
            <a:xfrm>
              <a:off x="4005720" y="411444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Line 19"/>
            <p:cNvSpPr/>
            <p:nvPr/>
          </p:nvSpPr>
          <p:spPr>
            <a:xfrm>
              <a:off x="4675320" y="403848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Line 20"/>
            <p:cNvSpPr/>
            <p:nvPr/>
          </p:nvSpPr>
          <p:spPr>
            <a:xfrm>
              <a:off x="5306760" y="411444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Line 21"/>
            <p:cNvSpPr/>
            <p:nvPr/>
          </p:nvSpPr>
          <p:spPr>
            <a:xfrm>
              <a:off x="5938200" y="403848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Line 22"/>
            <p:cNvSpPr/>
            <p:nvPr/>
          </p:nvSpPr>
          <p:spPr>
            <a:xfrm>
              <a:off x="6569640" y="411444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Line 19"/>
            <p:cNvSpPr/>
            <p:nvPr/>
          </p:nvSpPr>
          <p:spPr>
            <a:xfrm>
              <a:off x="7201080" y="403848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Rectangle 12"/>
            <p:cNvSpPr/>
            <p:nvPr/>
          </p:nvSpPr>
          <p:spPr>
            <a:xfrm>
              <a:off x="2057400" y="4572000"/>
              <a:ext cx="761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 </a:t>
              </a: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-3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5" name="TextBox 46"/>
          <p:cNvSpPr/>
          <p:nvPr/>
        </p:nvSpPr>
        <p:spPr>
          <a:xfrm>
            <a:off x="1523880" y="2438280"/>
            <a:ext cx="6477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Individual numbers are do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Oval 47"/>
          <p:cNvSpPr/>
          <p:nvPr/>
        </p:nvSpPr>
        <p:spPr>
          <a:xfrm>
            <a:off x="5181480" y="411480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" name="Group 27"/>
          <p:cNvGrpSpPr/>
          <p:nvPr/>
        </p:nvGrpSpPr>
        <p:grpSpPr>
          <a:xfrm>
            <a:off x="1523880" y="4611600"/>
            <a:ext cx="6324840" cy="1178640"/>
            <a:chOff x="1523880" y="4611600"/>
            <a:chExt cx="6324840" cy="1178640"/>
          </a:xfrm>
        </p:grpSpPr>
        <p:sp>
          <p:nvSpPr>
            <p:cNvPr id="149" name="Rectangle 6"/>
            <p:cNvSpPr/>
            <p:nvPr/>
          </p:nvSpPr>
          <p:spPr>
            <a:xfrm>
              <a:off x="3624840" y="514512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-1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Rectangle 7"/>
            <p:cNvSpPr/>
            <p:nvPr/>
          </p:nvSpPr>
          <p:spPr>
            <a:xfrm>
              <a:off x="4332600" y="514764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0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Rectangle 8"/>
            <p:cNvSpPr/>
            <p:nvPr/>
          </p:nvSpPr>
          <p:spPr>
            <a:xfrm>
              <a:off x="6226920" y="514764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3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Rectangle 9"/>
            <p:cNvSpPr/>
            <p:nvPr/>
          </p:nvSpPr>
          <p:spPr>
            <a:xfrm>
              <a:off x="4964040" y="514764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1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Rectangle 10"/>
            <p:cNvSpPr/>
            <p:nvPr/>
          </p:nvSpPr>
          <p:spPr>
            <a:xfrm>
              <a:off x="6858360" y="514764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4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Rectangle 11"/>
            <p:cNvSpPr/>
            <p:nvPr/>
          </p:nvSpPr>
          <p:spPr>
            <a:xfrm>
              <a:off x="5595480" y="514764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2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Rectangle 12"/>
            <p:cNvSpPr/>
            <p:nvPr/>
          </p:nvSpPr>
          <p:spPr>
            <a:xfrm>
              <a:off x="2764800" y="5145120"/>
              <a:ext cx="761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 </a:t>
              </a: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-2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Line 15"/>
            <p:cNvSpPr/>
            <p:nvPr/>
          </p:nvSpPr>
          <p:spPr>
            <a:xfrm>
              <a:off x="1523880" y="4840200"/>
              <a:ext cx="63248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Line 16"/>
            <p:cNvSpPr/>
            <p:nvPr/>
          </p:nvSpPr>
          <p:spPr>
            <a:xfrm>
              <a:off x="2361960" y="468756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Line 17"/>
            <p:cNvSpPr/>
            <p:nvPr/>
          </p:nvSpPr>
          <p:spPr>
            <a:xfrm>
              <a:off x="3145680" y="461160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Line 18"/>
            <p:cNvSpPr/>
            <p:nvPr/>
          </p:nvSpPr>
          <p:spPr>
            <a:xfrm>
              <a:off x="3929760" y="468756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Line 19"/>
            <p:cNvSpPr/>
            <p:nvPr/>
          </p:nvSpPr>
          <p:spPr>
            <a:xfrm>
              <a:off x="4599360" y="461160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Line 20"/>
            <p:cNvSpPr/>
            <p:nvPr/>
          </p:nvSpPr>
          <p:spPr>
            <a:xfrm>
              <a:off x="5230800" y="468756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Line 21"/>
            <p:cNvSpPr/>
            <p:nvPr/>
          </p:nvSpPr>
          <p:spPr>
            <a:xfrm>
              <a:off x="5862240" y="461160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Line 22"/>
            <p:cNvSpPr/>
            <p:nvPr/>
          </p:nvSpPr>
          <p:spPr>
            <a:xfrm>
              <a:off x="6493320" y="468756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Line 19"/>
            <p:cNvSpPr/>
            <p:nvPr/>
          </p:nvSpPr>
          <p:spPr>
            <a:xfrm>
              <a:off x="7124760" y="461160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Rectangle 12"/>
            <p:cNvSpPr/>
            <p:nvPr/>
          </p:nvSpPr>
          <p:spPr>
            <a:xfrm>
              <a:off x="1981080" y="5145120"/>
              <a:ext cx="761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 </a:t>
              </a: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-3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6" name="Rectangle 2"/>
          <p:cNvSpPr/>
          <p:nvPr/>
        </p:nvSpPr>
        <p:spPr>
          <a:xfrm>
            <a:off x="2590920" y="274680"/>
            <a:ext cx="60958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Section 1.1: The Real Number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Text Placeholder 26"/>
          <p:cNvSpPr/>
          <p:nvPr/>
        </p:nvSpPr>
        <p:spPr>
          <a:xfrm>
            <a:off x="914400" y="1143000"/>
            <a:ext cx="77724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GRAPHS: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lot on the number lin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8" name="Group 31"/>
          <p:cNvGrpSpPr/>
          <p:nvPr/>
        </p:nvGrpSpPr>
        <p:grpSpPr>
          <a:xfrm>
            <a:off x="1600200" y="3048120"/>
            <a:ext cx="6324480" cy="1178280"/>
            <a:chOff x="1600200" y="3048120"/>
            <a:chExt cx="6324480" cy="1178280"/>
          </a:xfrm>
        </p:grpSpPr>
        <p:sp>
          <p:nvSpPr>
            <p:cNvPr id="169" name="Rectangle 6"/>
            <p:cNvSpPr/>
            <p:nvPr/>
          </p:nvSpPr>
          <p:spPr>
            <a:xfrm>
              <a:off x="3701160" y="358128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-1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Rectangle 7"/>
            <p:cNvSpPr/>
            <p:nvPr/>
          </p:nvSpPr>
          <p:spPr>
            <a:xfrm>
              <a:off x="4408560" y="358380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0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Rectangle 8"/>
            <p:cNvSpPr/>
            <p:nvPr/>
          </p:nvSpPr>
          <p:spPr>
            <a:xfrm>
              <a:off x="6302880" y="358380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3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Rectangle 9"/>
            <p:cNvSpPr/>
            <p:nvPr/>
          </p:nvSpPr>
          <p:spPr>
            <a:xfrm>
              <a:off x="5040000" y="358380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1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Rectangle 10"/>
            <p:cNvSpPr/>
            <p:nvPr/>
          </p:nvSpPr>
          <p:spPr>
            <a:xfrm>
              <a:off x="6934320" y="358380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4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Rectangle 11"/>
            <p:cNvSpPr/>
            <p:nvPr/>
          </p:nvSpPr>
          <p:spPr>
            <a:xfrm>
              <a:off x="5671440" y="358380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2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Rectangle 12"/>
            <p:cNvSpPr/>
            <p:nvPr/>
          </p:nvSpPr>
          <p:spPr>
            <a:xfrm>
              <a:off x="2841120" y="3581280"/>
              <a:ext cx="761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 </a:t>
              </a: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-2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Line 15"/>
            <p:cNvSpPr/>
            <p:nvPr/>
          </p:nvSpPr>
          <p:spPr>
            <a:xfrm>
              <a:off x="1600200" y="3276360"/>
              <a:ext cx="63244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Line 16"/>
            <p:cNvSpPr/>
            <p:nvPr/>
          </p:nvSpPr>
          <p:spPr>
            <a:xfrm>
              <a:off x="2438280" y="312408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Line 17"/>
            <p:cNvSpPr/>
            <p:nvPr/>
          </p:nvSpPr>
          <p:spPr>
            <a:xfrm>
              <a:off x="3222000" y="304812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Line 18"/>
            <p:cNvSpPr/>
            <p:nvPr/>
          </p:nvSpPr>
          <p:spPr>
            <a:xfrm>
              <a:off x="4005720" y="312408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Line 19"/>
            <p:cNvSpPr/>
            <p:nvPr/>
          </p:nvSpPr>
          <p:spPr>
            <a:xfrm>
              <a:off x="4675320" y="304812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Line 20"/>
            <p:cNvSpPr/>
            <p:nvPr/>
          </p:nvSpPr>
          <p:spPr>
            <a:xfrm>
              <a:off x="5306760" y="312408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Line 21"/>
            <p:cNvSpPr/>
            <p:nvPr/>
          </p:nvSpPr>
          <p:spPr>
            <a:xfrm>
              <a:off x="5938200" y="304812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Line 22"/>
            <p:cNvSpPr/>
            <p:nvPr/>
          </p:nvSpPr>
          <p:spPr>
            <a:xfrm>
              <a:off x="6569640" y="312408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Line 19"/>
            <p:cNvSpPr/>
            <p:nvPr/>
          </p:nvSpPr>
          <p:spPr>
            <a:xfrm>
              <a:off x="7201080" y="304812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Rectangle 12"/>
            <p:cNvSpPr/>
            <p:nvPr/>
          </p:nvSpPr>
          <p:spPr>
            <a:xfrm>
              <a:off x="2057400" y="3581280"/>
              <a:ext cx="761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 </a:t>
              </a: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-3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6" name="TextBox 49"/>
          <p:cNvSpPr/>
          <p:nvPr/>
        </p:nvSpPr>
        <p:spPr>
          <a:xfrm>
            <a:off x="1371600" y="2209680"/>
            <a:ext cx="670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Intervals including end poin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TextBox 51"/>
          <p:cNvSpPr/>
          <p:nvPr/>
        </p:nvSpPr>
        <p:spPr>
          <a:xfrm>
            <a:off x="5791320" y="2895480"/>
            <a:ext cx="304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Arial"/>
              </a:rPr>
              <a:t>[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TextBox 70"/>
          <p:cNvSpPr/>
          <p:nvPr/>
        </p:nvSpPr>
        <p:spPr>
          <a:xfrm>
            <a:off x="4419720" y="4419720"/>
            <a:ext cx="304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Arial"/>
              </a:rPr>
              <a:t>[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TextBox 71"/>
          <p:cNvSpPr/>
          <p:nvPr/>
        </p:nvSpPr>
        <p:spPr>
          <a:xfrm>
            <a:off x="5715000" y="4419720"/>
            <a:ext cx="304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Arial"/>
              </a:rPr>
              <a:t>]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Straight Connector 73"/>
          <p:cNvSpPr/>
          <p:nvPr/>
        </p:nvSpPr>
        <p:spPr>
          <a:xfrm>
            <a:off x="4572000" y="4800600"/>
            <a:ext cx="1295280" cy="0"/>
          </a:xfrm>
          <a:prstGeom prst="line">
            <a:avLst/>
          </a:prstGeom>
          <a:ln w="152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Line 23"/>
          <p:cNvSpPr/>
          <p:nvPr/>
        </p:nvSpPr>
        <p:spPr>
          <a:xfrm>
            <a:off x="5943600" y="3276720"/>
            <a:ext cx="1752480" cy="0"/>
          </a:xfrm>
          <a:prstGeom prst="line">
            <a:avLst/>
          </a:prstGeom>
          <a:ln w="1522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Місце для нижнього колонтитула 1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3" name="Group 2"/>
          <p:cNvGrpSpPr/>
          <p:nvPr/>
        </p:nvGrpSpPr>
        <p:grpSpPr>
          <a:xfrm>
            <a:off x="1523880" y="4611600"/>
            <a:ext cx="6324840" cy="1178640"/>
            <a:chOff x="1523880" y="4611600"/>
            <a:chExt cx="6324840" cy="1178640"/>
          </a:xfrm>
        </p:grpSpPr>
        <p:sp>
          <p:nvSpPr>
            <p:cNvPr id="194" name="Rectangle 6"/>
            <p:cNvSpPr/>
            <p:nvPr/>
          </p:nvSpPr>
          <p:spPr>
            <a:xfrm>
              <a:off x="3624840" y="514512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-1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Rectangle 7"/>
            <p:cNvSpPr/>
            <p:nvPr/>
          </p:nvSpPr>
          <p:spPr>
            <a:xfrm>
              <a:off x="4332600" y="514764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0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Rectangle 8"/>
            <p:cNvSpPr/>
            <p:nvPr/>
          </p:nvSpPr>
          <p:spPr>
            <a:xfrm>
              <a:off x="6226920" y="514764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3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Rectangle 9"/>
            <p:cNvSpPr/>
            <p:nvPr/>
          </p:nvSpPr>
          <p:spPr>
            <a:xfrm>
              <a:off x="4964040" y="514764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1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Rectangle 10"/>
            <p:cNvSpPr/>
            <p:nvPr/>
          </p:nvSpPr>
          <p:spPr>
            <a:xfrm>
              <a:off x="6858360" y="514764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4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Rectangle 11"/>
            <p:cNvSpPr/>
            <p:nvPr/>
          </p:nvSpPr>
          <p:spPr>
            <a:xfrm>
              <a:off x="5595480" y="514764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2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Rectangle 12"/>
            <p:cNvSpPr/>
            <p:nvPr/>
          </p:nvSpPr>
          <p:spPr>
            <a:xfrm>
              <a:off x="2764800" y="5145120"/>
              <a:ext cx="761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 </a:t>
              </a: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-2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Line 15"/>
            <p:cNvSpPr/>
            <p:nvPr/>
          </p:nvSpPr>
          <p:spPr>
            <a:xfrm>
              <a:off x="1523880" y="4840200"/>
              <a:ext cx="63248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Line 16"/>
            <p:cNvSpPr/>
            <p:nvPr/>
          </p:nvSpPr>
          <p:spPr>
            <a:xfrm>
              <a:off x="2361960" y="468756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Line 17"/>
            <p:cNvSpPr/>
            <p:nvPr/>
          </p:nvSpPr>
          <p:spPr>
            <a:xfrm>
              <a:off x="3145680" y="461160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Line 18"/>
            <p:cNvSpPr/>
            <p:nvPr/>
          </p:nvSpPr>
          <p:spPr>
            <a:xfrm>
              <a:off x="3929760" y="468756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Line 19"/>
            <p:cNvSpPr/>
            <p:nvPr/>
          </p:nvSpPr>
          <p:spPr>
            <a:xfrm>
              <a:off x="4599360" y="461160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Line 20"/>
            <p:cNvSpPr/>
            <p:nvPr/>
          </p:nvSpPr>
          <p:spPr>
            <a:xfrm>
              <a:off x="5230800" y="468756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Line 21"/>
            <p:cNvSpPr/>
            <p:nvPr/>
          </p:nvSpPr>
          <p:spPr>
            <a:xfrm>
              <a:off x="5862240" y="461160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Line 22"/>
            <p:cNvSpPr/>
            <p:nvPr/>
          </p:nvSpPr>
          <p:spPr>
            <a:xfrm>
              <a:off x="6493320" y="468756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Line 19"/>
            <p:cNvSpPr/>
            <p:nvPr/>
          </p:nvSpPr>
          <p:spPr>
            <a:xfrm>
              <a:off x="7124760" y="461160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Rectangle 12"/>
            <p:cNvSpPr/>
            <p:nvPr/>
          </p:nvSpPr>
          <p:spPr>
            <a:xfrm>
              <a:off x="1981080" y="5145120"/>
              <a:ext cx="761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 </a:t>
              </a: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-3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1" name="Rectangle 2"/>
          <p:cNvSpPr/>
          <p:nvPr/>
        </p:nvSpPr>
        <p:spPr>
          <a:xfrm>
            <a:off x="2590920" y="274680"/>
            <a:ext cx="60958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Section 1.1: The Real Number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Text Placeholder 26"/>
          <p:cNvSpPr/>
          <p:nvPr/>
        </p:nvSpPr>
        <p:spPr>
          <a:xfrm>
            <a:off x="914400" y="1143000"/>
            <a:ext cx="77724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GRAPHS: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lot on the number lin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3" name="Group 22"/>
          <p:cNvGrpSpPr/>
          <p:nvPr/>
        </p:nvGrpSpPr>
        <p:grpSpPr>
          <a:xfrm>
            <a:off x="1600200" y="3048120"/>
            <a:ext cx="6324480" cy="1178280"/>
            <a:chOff x="1600200" y="3048120"/>
            <a:chExt cx="6324480" cy="1178280"/>
          </a:xfrm>
        </p:grpSpPr>
        <p:sp>
          <p:nvSpPr>
            <p:cNvPr id="214" name="Rectangle 6"/>
            <p:cNvSpPr/>
            <p:nvPr/>
          </p:nvSpPr>
          <p:spPr>
            <a:xfrm>
              <a:off x="3701160" y="358128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-1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Rectangle 7"/>
            <p:cNvSpPr/>
            <p:nvPr/>
          </p:nvSpPr>
          <p:spPr>
            <a:xfrm>
              <a:off x="4408560" y="358380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0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Rectangle 8"/>
            <p:cNvSpPr/>
            <p:nvPr/>
          </p:nvSpPr>
          <p:spPr>
            <a:xfrm>
              <a:off x="6302880" y="358380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3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Rectangle 9"/>
            <p:cNvSpPr/>
            <p:nvPr/>
          </p:nvSpPr>
          <p:spPr>
            <a:xfrm>
              <a:off x="5040000" y="358380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1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Rectangle 10"/>
            <p:cNvSpPr/>
            <p:nvPr/>
          </p:nvSpPr>
          <p:spPr>
            <a:xfrm>
              <a:off x="6934320" y="358380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4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Rectangle 11"/>
            <p:cNvSpPr/>
            <p:nvPr/>
          </p:nvSpPr>
          <p:spPr>
            <a:xfrm>
              <a:off x="5671440" y="358380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2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Rectangle 12"/>
            <p:cNvSpPr/>
            <p:nvPr/>
          </p:nvSpPr>
          <p:spPr>
            <a:xfrm>
              <a:off x="2841120" y="3581280"/>
              <a:ext cx="761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 </a:t>
              </a: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-2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Line 15"/>
            <p:cNvSpPr/>
            <p:nvPr/>
          </p:nvSpPr>
          <p:spPr>
            <a:xfrm>
              <a:off x="1600200" y="3276360"/>
              <a:ext cx="63244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Line 16"/>
            <p:cNvSpPr/>
            <p:nvPr/>
          </p:nvSpPr>
          <p:spPr>
            <a:xfrm>
              <a:off x="2438280" y="312408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Line 17"/>
            <p:cNvSpPr/>
            <p:nvPr/>
          </p:nvSpPr>
          <p:spPr>
            <a:xfrm>
              <a:off x="3222000" y="304812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Line 18"/>
            <p:cNvSpPr/>
            <p:nvPr/>
          </p:nvSpPr>
          <p:spPr>
            <a:xfrm>
              <a:off x="4005720" y="312408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Line 19"/>
            <p:cNvSpPr/>
            <p:nvPr/>
          </p:nvSpPr>
          <p:spPr>
            <a:xfrm>
              <a:off x="4675320" y="304812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Line 20"/>
            <p:cNvSpPr/>
            <p:nvPr/>
          </p:nvSpPr>
          <p:spPr>
            <a:xfrm>
              <a:off x="5306760" y="312408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Line 21"/>
            <p:cNvSpPr/>
            <p:nvPr/>
          </p:nvSpPr>
          <p:spPr>
            <a:xfrm>
              <a:off x="5938200" y="304812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Line 22"/>
            <p:cNvSpPr/>
            <p:nvPr/>
          </p:nvSpPr>
          <p:spPr>
            <a:xfrm>
              <a:off x="6569640" y="312408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Line 19"/>
            <p:cNvSpPr/>
            <p:nvPr/>
          </p:nvSpPr>
          <p:spPr>
            <a:xfrm>
              <a:off x="7201080" y="304812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Rectangle 12"/>
            <p:cNvSpPr/>
            <p:nvPr/>
          </p:nvSpPr>
          <p:spPr>
            <a:xfrm>
              <a:off x="2057400" y="3581280"/>
              <a:ext cx="761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 </a:t>
              </a: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-3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1" name="TextBox 40"/>
          <p:cNvSpPr/>
          <p:nvPr/>
        </p:nvSpPr>
        <p:spPr>
          <a:xfrm>
            <a:off x="1219320" y="220968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Intervals not including end poin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TextBox 41"/>
          <p:cNvSpPr/>
          <p:nvPr/>
        </p:nvSpPr>
        <p:spPr>
          <a:xfrm>
            <a:off x="5791320" y="2895480"/>
            <a:ext cx="304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Arial"/>
              </a:rPr>
              <a:t>(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Box 42"/>
          <p:cNvSpPr/>
          <p:nvPr/>
        </p:nvSpPr>
        <p:spPr>
          <a:xfrm>
            <a:off x="4419720" y="4419720"/>
            <a:ext cx="304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Arial"/>
              </a:rPr>
              <a:t>(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TextBox 43"/>
          <p:cNvSpPr/>
          <p:nvPr/>
        </p:nvSpPr>
        <p:spPr>
          <a:xfrm>
            <a:off x="5715000" y="4419720"/>
            <a:ext cx="304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Arial"/>
              </a:rPr>
              <a:t>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Straight Connector 44"/>
          <p:cNvSpPr/>
          <p:nvPr/>
        </p:nvSpPr>
        <p:spPr>
          <a:xfrm>
            <a:off x="4572000" y="4800600"/>
            <a:ext cx="1371600" cy="0"/>
          </a:xfrm>
          <a:prstGeom prst="line">
            <a:avLst/>
          </a:prstGeom>
          <a:ln w="152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Line 23"/>
          <p:cNvSpPr/>
          <p:nvPr/>
        </p:nvSpPr>
        <p:spPr>
          <a:xfrm>
            <a:off x="5943600" y="3276720"/>
            <a:ext cx="1752480" cy="0"/>
          </a:xfrm>
          <a:prstGeom prst="line">
            <a:avLst/>
          </a:prstGeom>
          <a:ln w="1522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Text Box 63"/>
          <p:cNvSpPr/>
          <p:nvPr/>
        </p:nvSpPr>
        <p:spPr>
          <a:xfrm>
            <a:off x="762120" y="3803760"/>
            <a:ext cx="7016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Rectangle 2"/>
          <p:cNvSpPr/>
          <p:nvPr/>
        </p:nvSpPr>
        <p:spPr>
          <a:xfrm>
            <a:off x="304920" y="274680"/>
            <a:ext cx="83818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Section 1.2: Arithmetic &amp; Properties of Real Numb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 Placeholder 26"/>
          <p:cNvSpPr/>
          <p:nvPr/>
        </p:nvSpPr>
        <p:spPr>
          <a:xfrm>
            <a:off x="914400" y="1143000"/>
            <a:ext cx="77724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OPERATIONS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ddi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ubtraction (the same as adding a number with the opposite sig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ultiplic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ivision (the same as multiplying by the reciprocal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10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10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2"/>
          <p:cNvSpPr/>
          <p:nvPr/>
        </p:nvSpPr>
        <p:spPr>
          <a:xfrm>
            <a:off x="304920" y="274680"/>
            <a:ext cx="83818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Section 1.2: Arithmetic &amp; Properties of Real Numb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Text Placeholder 26"/>
          <p:cNvSpPr/>
          <p:nvPr/>
        </p:nvSpPr>
        <p:spPr>
          <a:xfrm>
            <a:off x="914400" y="1143000"/>
            <a:ext cx="77724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ADDITION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Content Placeholder 19"/>
          <p:cNvSpPr/>
          <p:nvPr/>
        </p:nvSpPr>
        <p:spPr>
          <a:xfrm>
            <a:off x="914400" y="3962520"/>
            <a:ext cx="75438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ddends that have opposite sig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ubtract absolute valu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eep the sign of the addend with the largest absolute valu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Rectangle 5"/>
          <p:cNvSpPr/>
          <p:nvPr/>
        </p:nvSpPr>
        <p:spPr>
          <a:xfrm>
            <a:off x="914400" y="1890720"/>
            <a:ext cx="7543800" cy="175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ddends that have the same sig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dd absolute valu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eep the sign of the adden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2"/>
          <p:cNvSpPr/>
          <p:nvPr/>
        </p:nvSpPr>
        <p:spPr>
          <a:xfrm>
            <a:off x="304920" y="274680"/>
            <a:ext cx="83818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Section 1.2: Arithmetic &amp; Properties of Real Numb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Text Placeholder 26"/>
          <p:cNvSpPr/>
          <p:nvPr/>
        </p:nvSpPr>
        <p:spPr>
          <a:xfrm>
            <a:off x="914400" y="1143000"/>
            <a:ext cx="77724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MULTIPLICATION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Rectangle 5"/>
          <p:cNvSpPr/>
          <p:nvPr/>
        </p:nvSpPr>
        <p:spPr>
          <a:xfrm>
            <a:off x="914400" y="2286000"/>
            <a:ext cx="7543800" cy="273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ultiply absolute valu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f the factors have the same signs,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product is posi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the factors have opposite signs,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product is nega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2"/>
          <p:cNvSpPr/>
          <p:nvPr/>
        </p:nvSpPr>
        <p:spPr>
          <a:xfrm>
            <a:off x="304920" y="274680"/>
            <a:ext cx="83818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Section 1.2: Arithmetic &amp; Properties of Real Numb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Text Placeholder 26"/>
          <p:cNvSpPr/>
          <p:nvPr/>
        </p:nvSpPr>
        <p:spPr>
          <a:xfrm>
            <a:off x="914400" y="1143000"/>
            <a:ext cx="77724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ahoma"/>
              </a:rPr>
              <a:t>STATISTICS: 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measures of central tendency</a:t>
            </a:r>
            <a:r>
              <a:rPr b="0" lang="en-US" sz="30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Rectangle 17"/>
          <p:cNvSpPr/>
          <p:nvPr/>
        </p:nvSpPr>
        <p:spPr>
          <a:xfrm>
            <a:off x="914400" y="2286000"/>
            <a:ext cx="7543800" cy="175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ea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edia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22:41:36Z</dcterms:created>
  <dc:creator>melissa.marshall</dc:creator>
  <dc:description/>
  <dc:language>en-US</dc:language>
  <cp:lastModifiedBy>LEGION</cp:lastModifiedBy>
  <dcterms:modified xsi:type="dcterms:W3CDTF">2017-09-18T07:58:11Z</dcterms:modified>
  <cp:revision>170</cp:revision>
  <dc:subject/>
  <dc:title>Inequalities and their Graphs</dc:title>
</cp:coreProperties>
</file>